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E00-C1D1-4907-8102-C2D55585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BD6-EE78-439C-A9B0-66467B8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289-A3E7-486D-8C0F-FE4F44C7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379-2B20-4A8C-A4CE-CF40B32B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E2C-86EC-4154-A465-3CBCCBD1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E0F-110F-4FF6-BFDB-746B0C68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2DB-6A23-4CB0-B25C-41B0C1F8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9F9-A65E-4693-9D3D-67627781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05F-8BCD-43F8-9B45-3C977806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052-CD80-457F-9B49-E1C9541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3A3-CFA6-4BEF-B2CA-3B0BC2F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FE3-6A7B-4A63-AAA6-94F8091F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B053-62EA-41EF-AD68-A9D684820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ednesday, September 10th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Radical Equ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quations with one or more square root symbols in i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1d1cb"/>
                </a:solidFill>
                <a:latin typeface="Arial"/>
              </a:rPr>
              <a:t>Most radical equations are solved by isolating the square root to one side of the equation and then squaring both sides</a:t>
            </a:r>
            <a:endParaRPr b="0" lang="en-US" sz="5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EXAMPLES</a:t>
            </a:r>
            <a:endParaRPr b="0" lang="en-US" sz="8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819520" y="1066680"/>
          <a:ext cx="3962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066680"/>
                    <a:ext cx="3962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362320" y="533520"/>
          <a:ext cx="4381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3520"/>
                    <a:ext cx="4381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14600" y="685800"/>
          <a:ext cx="4191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85800"/>
                    <a:ext cx="4191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0" y="533520"/>
          <a:ext cx="47624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33520"/>
                    <a:ext cx="4762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worksheet</a:t>
            </a:r>
            <a:br>
              <a:rPr sz="8500"/>
            </a:b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P.4 part four</a:t>
            </a:r>
            <a:endParaRPr b="0" lang="en-US" sz="8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Go over last night’s HW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-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2.  -1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3.  -4</a:t>
            </a:r>
            <a:br>
              <a:rPr sz="4000"/>
            </a:b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4.  5</a:t>
            </a:r>
            <a:br>
              <a:rPr sz="4000"/>
            </a:b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5.  10</a:t>
            </a:r>
            <a:br>
              <a:rPr sz="4000"/>
            </a:b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6.  12 and 3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7.  1 and -1.2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8.  4 and -5</a:t>
            </a:r>
            <a:br>
              <a:rPr sz="4000"/>
            </a:b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58:49Z</dcterms:created>
  <dc:creator>jnewman</dc:creator>
  <dc:description/>
  <dc:language>en-US</dc:language>
  <cp:lastModifiedBy>abeason</cp:lastModifiedBy>
  <dcterms:modified xsi:type="dcterms:W3CDTF">2008-09-10T16:33:17Z</dcterms:modified>
  <cp:revision>7</cp:revision>
  <dc:subject/>
  <dc:title>Thursday, September 13th</dc:title>
</cp:coreProperties>
</file>